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09A-58E8-44F2-A707-D201F771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02F-A1E4-40ED-8990-A80C623C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D5E-C022-4F91-A9D4-605F3A83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829-D0CE-45CE-B8A6-0624AD64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4BF6-2C81-4133-8C09-6540B060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06C8-7802-4674-A5EB-91B8ABE1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0F35-0933-4282-9EAF-4FF2C6ED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819D-E5A1-413C-9FFF-CB859017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1475-536B-40D1-AC0B-0A9E9A9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0518-8EDE-492C-9BED-FAD9C5BE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392D-1396-4551-80A1-9E75BC18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ADF-CDCB-4C6E-B0A3-77CB520B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34C7-AB1C-48EF-86AA-DDF9802E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9A65-501C-4DDE-8F42-C61D3ED0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2A9B-03FC-4C43-9F54-78A9E663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86C9-C1C8-49B2-AA0E-3A8DCF43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A1A1-C470-4C38-8171-263C7D65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D1C-6E14-46D2-9D14-0F9226C2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167-68EB-43CB-AA07-11CE362A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329-34C7-4222-B001-6F278C8D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7D1-EC57-472D-9162-52E059FB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480-4EA3-4EFF-BA82-CF1080C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DE1-F9BB-40C8-8180-2D9107C2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689-50C8-46A6-B36F-37500187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2E62-52FE-487A-A287-58CCE9A969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5E45-C567-4BF1-841B-6FD21D37D3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nday, August 8, 201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esday, August 9, 20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3927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assroom Ice Brea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student will have an understanding of the classroom policies and proced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7960" y="2590920"/>
            <a:ext cx="3927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D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troduction to Geo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ce Brea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umber S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ednesday, August 10, 201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ursday, August 11, 2011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 will have an understanding of the classroom policies and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 work:  Rational or Irrationa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-2, 5.2345, ¾,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Note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ment:  Syllabus Sig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iday, August 12, 20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ent will have an understanding of the classroom policies and proced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Using at least three complete sentences, what is your goal for GEOMETRY CLA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ed Syllabus d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Note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7:11:18Z</dcterms:created>
  <dc:creator>tstephens</dc:creator>
  <dc:description/>
  <dc:language>en-US</dc:language>
  <cp:lastModifiedBy>tstephens</cp:lastModifiedBy>
  <dcterms:modified xsi:type="dcterms:W3CDTF">2011-08-12T15:21:54Z</dcterms:modified>
  <cp:revision>14</cp:revision>
  <dc:subject/>
  <dc:title>Geometry 1 Thursday, August 13, 2009</dc:title>
</cp:coreProperties>
</file>